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drumroll.wav" ContentType="audio/x-wav"/>
  <Override PartName="/ppt/media/applause.wav" ContentType="audio/x-wav"/>
  <Override PartName="/ppt/media/image5.jpeg" ContentType="image/jpeg"/>
  <Override PartName="/ppt/media/image6.png" ContentType="image/png"/>
  <Override PartName="/ppt/media/image14.wmf" ContentType="image/x-wmf"/>
  <Override PartName="/ppt/media/image8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1BC-7B37-4AFE-9D41-2275C1E94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735B-41D3-4F7D-85EE-406F6CD02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129-2A18-42A4-8E51-1CC5A69B1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F51-8221-454B-9E77-F1CDC5CD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459-9013-4B80-94F0-30092D0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32D-D42D-4136-9431-EED70ADF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5EA-C524-47EC-8BFD-4F7299AB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72A6-C432-4B47-BF66-3F0A0383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C24-2097-4E4E-8294-CEE6D21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DF39-3741-460B-B8EF-344E43E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3D5-98AD-48DD-A489-757713D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A80A-D12C-40FF-A855-E613A34F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CCB-1F8B-4F0B-80CD-3765C99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C77A-A94F-424E-ADE7-CD35C19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BE8-EDA3-4629-8FA7-7F832ED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E68-A850-4A0F-B4BC-6B2B2E4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DDE0-9243-4815-B318-944D12CE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C614-0C08-40E3-A644-E435267C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BF6-DE6D-4A11-BDDE-EA19E012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DE0-519D-45CF-8346-250497C1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AC6F-5E6E-48C4-B14C-8001FE11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2654-A872-478B-8E67-BB1B8DB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6FB5-5CCF-4288-BAE6-8E8E65D6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E9BE-B479-4E90-B45D-EE3C987D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D5251-C82B-4DE4-9F0E-C9A0AB29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5F3-1F0F-4CFD-A049-6695FA8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10AF-5237-42D4-BBD8-461C3F3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06C6-D99B-48B8-A014-432ED8E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8831-462F-4B23-B1D8-2CCAD81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D87D-1797-4E63-A386-36AF922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BB0D-882E-4F84-A177-2AFA1F39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832C-7102-4729-9454-1199A337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A44E-F48E-426A-A0C6-BE39285F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096C-97AA-4769-A79B-BEAD93F7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7C43-363F-48AB-BABE-4B76597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A716-4B5C-4470-83F3-D2E2E8D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8FD-527A-48F0-84FC-93063F0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CC56-162E-4AE6-BC79-57798B4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0685C-0DDB-4459-B379-FB2AA72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7A04-0975-46EE-9503-39BA0E3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9405-C6A0-4A94-A760-1B89B73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ADCC-9F4B-4D29-AC1A-AF9FFD4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BE8B-8636-4371-A182-770A901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D9D2-A045-4FCD-9B96-3BFD27C6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F19A-29C1-4FC8-AA26-B91497D5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AAF8-1671-4B4B-8A77-9246614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3FC9-9B3F-4C62-9343-31FC6FE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194-FA67-4F35-A423-3D65372A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DB18-D955-4D79-9E4E-2964B0C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7955-D9F7-4630-938D-15A20308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13FE-48E4-4484-A2B9-4C516F2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6B51-D387-4732-88F8-85380EB4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0110-485C-4C69-A3CC-9CAA7CD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B8E3-3175-4703-9CC0-B1DBF04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337A-F529-4BD4-B6F9-85C8C7B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DD4E-15BB-4794-8751-68648606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76DE-2643-4287-8D61-E52F9F4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73B4-13BC-4134-B1AA-A349F170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10D-48AE-4E26-8C8F-E48542F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8B26-530A-4E07-8401-33163A70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5B2-F0FC-4CBE-A297-B0C0DB7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23F-5254-4820-BC71-D32989B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B5B-CE3D-43D8-95B3-8825489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F0B-5CE6-4ED9-BD4E-16F35F42024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C70-311A-4392-8321-45C057E754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0CC8-2D0B-4A20-9512-A58A9C93229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F4F-655D-4C6F-BF98-93B09C8B7B1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517F-090B-4C46-BAA0-B8CCED12FBF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4343400" cy="129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The rainforest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By Lizeth , Manu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www.brazadv.com/brazil-altitudinal-zone/lowland.jpg"/>
          <p:cNvPicPr/>
          <p:nvPr/>
        </p:nvPicPr>
        <p:blipFill>
          <a:blip r:embed="rId1"/>
          <a:stretch/>
        </p:blipFill>
        <p:spPr>
          <a:xfrm>
            <a:off x="1905120" y="1600200"/>
            <a:ext cx="596556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42800" y="495360"/>
            <a:ext cx="8258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angal Bambo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http://www.mobot.org/hort/images/Clim1-1.jpg"/>
          <p:cNvPicPr/>
          <p:nvPr/>
        </p:nvPicPr>
        <p:blipFill>
          <a:blip r:embed="rId2"/>
          <a:stretch/>
        </p:blipFill>
        <p:spPr>
          <a:xfrm>
            <a:off x="457200" y="1371600"/>
            <a:ext cx="4495680" cy="3886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5257800" y="9144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ngal Bamboo likes temperature between 40 degrees ferenh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5000760" y="190512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amboo can live 24 to 4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334120" y="2286000"/>
            <a:ext cx="37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grows in the south asian 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5562720" y="2590920"/>
            <a:ext cx="29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grows 100 inches per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5410080" y="289548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andas eat the bamb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8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he Kapok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4" descr="http://www.mongabay.com/images/2005/kapok_side_view.jpg"/>
          <p:cNvPicPr/>
          <p:nvPr/>
        </p:nvPicPr>
        <p:blipFill>
          <a:blip r:embed="rId1"/>
          <a:stretch/>
        </p:blipFill>
        <p:spPr>
          <a:xfrm>
            <a:off x="533520" y="914400"/>
            <a:ext cx="3276360" cy="464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742920" y="11430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grows in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886200" y="1447920"/>
            <a:ext cx="362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diemiters it can reach 9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grow up to 150 feet towering the other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pe is silind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is body color is pinkwish, and ashi brom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35053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The Jambu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538960" y="1447560"/>
            <a:ext cx="269064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240" y="1371600"/>
            <a:ext cx="5111640" cy="4572000"/>
          </a:xfrm>
          <a:prstGeom prst="rect">
            <a:avLst/>
          </a:prstGeom>
          <a:solidFill>
            <a:srgbClr val="73db2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grows up to 2 or 10 i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 petals color are yellow wh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grows in the South Indian rainfo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looks like a small tree or shru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 skin is white and light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lowerpicturegallery.com/d/9825-2/close+up+photo+of+purple+hydrangea+flower.JPG"/>
          <p:cNvPicPr/>
          <p:nvPr/>
        </p:nvPicPr>
        <p:blipFill>
          <a:blip r:embed="rId1"/>
          <a:stretch/>
        </p:blipFill>
        <p:spPr>
          <a:xfrm>
            <a:off x="685800" y="1828800"/>
            <a:ext cx="2797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116888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he coconut Tre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5029560"/>
            <a:ext cx="3930480" cy="121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conut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2880" y="5638320"/>
            <a:ext cx="3625920" cy="38124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65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y can produce 50 cocon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coconut_tree.jpg"/>
          <p:cNvPicPr/>
          <p:nvPr/>
        </p:nvPicPr>
        <p:blipFill>
          <a:blip r:embed="rId1"/>
          <a:stretch/>
        </p:blipFill>
        <p:spPr>
          <a:xfrm>
            <a:off x="1371600" y="1523880"/>
            <a:ext cx="2743200" cy="348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evsgrow up to 15 to 17 f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t can be used for candy, cookies, and p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mats, baskets, and hats are made by their leaf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be found in Hawaii, tip of Florida,and Puertor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51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-914400">
              <a:buClr>
                <a:srgbClr val="ffc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Verdana"/>
              </a:rPr>
              <a:t>Toco Tuca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71280" y="-693720"/>
            <a:ext cx="2124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http://2.bp.blogspot.com/_J_nfK3K6h5E/S4Ia2-8SybI/AAAAAAAABcI/EAcqkKwYH1w/s400/Toco+Toucan.jpg"/>
          <p:cNvPicPr/>
          <p:nvPr/>
        </p:nvPicPr>
        <p:blipFill>
          <a:blip r:embed="rId1"/>
          <a:stretch/>
        </p:blipFill>
        <p:spPr>
          <a:xfrm>
            <a:off x="0" y="182880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3"/>
          <p:cNvSpPr/>
          <p:nvPr/>
        </p:nvSpPr>
        <p:spPr>
          <a:xfrm>
            <a:off x="4211640" y="2133720"/>
            <a:ext cx="463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is peak  colors are  ligjht blue, yellow, 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nd orange it does not  fly very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is 25 inches 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 eats fruit, seeds, and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leys 2-4 shiny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t belongs in a group named f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They talk to each other  by making no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35812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kink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http://www.settlerspondshelter.net/Images/SponsorKINKAJOU.jpg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504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4572000" y="13716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indians gave his name. It means Honey Bear. They named him like that because it loves h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lives in the canopy of the rainfo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has sharpy c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eats fruit,insects,and necta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a am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The bangal tiger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0" y="1782720"/>
            <a:ext cx="3930480" cy="64468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7" descr="bengal-tiger-pictures_2.jpg"/>
          <p:cNvPicPr/>
          <p:nvPr/>
        </p:nvPicPr>
        <p:blipFill>
          <a:blip r:embed="rId1"/>
          <a:stretch/>
        </p:blipFill>
        <p:spPr>
          <a:xfrm>
            <a:off x="533520" y="2514600"/>
            <a:ext cx="4039920" cy="2743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800240" y="18284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 carniv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can waigh up to 575 po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eats monkeys,white doc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e hunts intill it is 8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 can be found in a lot of regons like India ,china,and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90560" y="60912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boo Fruit D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8040" y="14475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eighs about 1.5 ou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 wings are between 3-6 in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’s purple in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makes his nest with twigs, roots and gr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eat fruit from t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2" descr="http://www.blueplanetbiomes.org/images/jambu_frdove.jpg"/>
          <p:cNvPicPr/>
          <p:nvPr/>
        </p:nvPicPr>
        <p:blipFill>
          <a:blip r:embed="rId1"/>
          <a:stretch/>
        </p:blipFill>
        <p:spPr>
          <a:xfrm>
            <a:off x="5105520" y="1600200"/>
            <a:ext cx="3012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20:20:08Z</dcterms:created>
  <dc:creator>user</dc:creator>
  <dc:description/>
  <dc:language>en-US</dc:language>
  <cp:lastModifiedBy>user</cp:lastModifiedBy>
  <dcterms:modified xsi:type="dcterms:W3CDTF">2011-03-24T21:43:59Z</dcterms:modified>
  <cp:revision>40</cp:revision>
  <dc:subject/>
  <dc:title>The rainforest</dc:title>
</cp:coreProperties>
</file>